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DD90-1512-4290-A282-5154066FC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72A6-F607-47B6-B821-CB708018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3A75-214F-4E0C-A0FE-0E2BE74FB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9BEB-630B-4C52-BB9A-EA14D7222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B61E-92C5-484E-B5A2-66B6ACB8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031A-110D-4E23-98BF-425F49B5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FD45-A59A-4F6A-8691-79605DAD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A711-084B-4396-9EF9-AA6224F6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D51E-635E-4A32-862B-C79EECDA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0645-C137-4456-89E3-32CF5293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2C65-4E0F-4D66-B623-88DD735E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FC78-6DD6-4691-8AEF-2B970201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2A5D-38F7-4F7E-8AB6-D6A5FD907B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!CODY DUNCA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itle 1"/>
          <p:cNvSpPr/>
          <p:nvPr/>
        </p:nvSpPr>
        <p:spPr>
          <a:xfrm>
            <a:off x="3048120" y="762120"/>
            <a:ext cx="281916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eek City-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http://clio.missouristate.edu/chuchiak/New%20Webpage%20Images/10056152aAthensAgora.jpg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itle 1"/>
          <p:cNvSpPr/>
          <p:nvPr/>
        </p:nvSpPr>
        <p:spPr>
          <a:xfrm>
            <a:off x="1523880" y="762120"/>
            <a:ext cx="63248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tudy of wisdom and the right way to l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http://t2.gstatic.com/images?q=tbn:ANd9GcRY6JxGqPTTGFrIdvGYZpglhS3uQMkahAKsk1eFdoyHbyGbYtE6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itle 1"/>
          <p:cNvSpPr/>
          <p:nvPr/>
        </p:nvSpPr>
        <p:spPr>
          <a:xfrm>
            <a:off x="1905120" y="762120"/>
            <a:ext cx="54864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rea of land nearly surrounded by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http://t2.gstatic.com/images?q=tbn:ANd9GcRUctjFMHWVoMgNbFy4BBikDcK0T_Mz7vrDhPAMOe9HSWkT7alQ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09320" y="0"/>
            <a:ext cx="5257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itle 1"/>
          <p:cNvSpPr/>
          <p:nvPr/>
        </p:nvSpPr>
        <p:spPr>
          <a:xfrm>
            <a:off x="2895480" y="762120"/>
            <a:ext cx="40388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ar between Athens and Spa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http://t3.gstatic.com/images?q=tbn:ANd9GcSyB9tTsn5OTZ5_kSDrcOShDZilqsTVE73O40WlxdJyjXI8QVqc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itle 1"/>
          <p:cNvSpPr/>
          <p:nvPr/>
        </p:nvSpPr>
        <p:spPr>
          <a:xfrm>
            <a:off x="1600200" y="762120"/>
            <a:ext cx="601992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kind of government that is run by a small group of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http://t0.gstatic.com/images?q=tbn:ANd9GcQImSMHIdr0NRtXB-veUii2ikr-vsGBF50rxuDZq8P0V5ttDypS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itle 1"/>
          <p:cNvSpPr/>
          <p:nvPr/>
        </p:nvSpPr>
        <p:spPr>
          <a:xfrm>
            <a:off x="2438280" y="762120"/>
            <a:ext cx="4572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heltered place along a coas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http://t1.gstatic.com/images?q=tbn:ANd9GcRhSbQOyLwCVOsVMEWhsvGr_8Q_ILzpI4IpcQzalLHkKuye1gnc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http://t1.gstatic.com/images?q=tbn:ANd9GcQIVcF7QSbiCbVXGaeQpdSZnCJpei_9COBnnJO8f9Qme75JgEx1FA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990720" y="838080"/>
            <a:ext cx="6858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http://t2.gstatic.com/images?q=tbn:ANd9GcQVfQ0k9rTgPI1XXPy2uuRiFt7zrafF6yk7RmFjPsvuHH-CXIif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wmaking place where people voted on issues that helped their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://stoa.files.wordpress.com/2009/03/basileus-assembly.jpg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erson who has certain rights and responsibilities to his or her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://t3.gstatic.com/images?q=tbn:ANd9GcRoEkHc929r3Tg0zvdLcsKLh1ODyFddpqBkPsg3zcHAWLYm67lb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oup of people who live apart from Greece but kept economic ties with 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t2.gstatic.com/images?q=tbn:ANd9GcQ6WLkm9u37oXmGsGKvFjy9ihG58xAiSzutRD3r7an3oaqJp-R_qg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itle 1"/>
          <p:cNvSpPr/>
          <p:nvPr/>
        </p:nvSpPr>
        <p:spPr>
          <a:xfrm>
            <a:off x="914400" y="762120"/>
            <a:ext cx="723888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form of government where people vote to make deci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ttp://t0.gstatic.com/images?q=tbn:ANd9GcTq-OzG9-ZXM5qMjCEI852-it0Bwyg7sCc1jkddCjutCKPWTytM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tle 1"/>
          <p:cNvSpPr/>
          <p:nvPr/>
        </p:nvSpPr>
        <p:spPr>
          <a:xfrm>
            <a:off x="1143000" y="762120"/>
            <a:ext cx="70866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hear evidence and make decisions in a court 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http://t0.gstatic.com/images?q=tbn:ANd9GcSGlSOjovrqQS2Rm-1-SUILBi7-Ow9BXQn2wRoNl3V1Rv2l6PYsVg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itle 1"/>
          <p:cNvSpPr/>
          <p:nvPr/>
        </p:nvSpPr>
        <p:spPr>
          <a:xfrm>
            <a:off x="1905120" y="762120"/>
            <a:ext cx="48006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 headed by one ru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t0.gstatic.com/images?q=tbn:ANd9GcQkDl9iHcHvzBwA4xMmMxAyzq3ekI6IzByEOi-keXcKcxN1POd1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1T21:26:05Z</dcterms:modified>
  <cp:revision>90</cp:revision>
  <dc:subject/>
  <dc:title>Ancient Greece</dc:title>
</cp:coreProperties>
</file>